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DD30-91F7-4D08-A4D3-BDFBC6CED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8EB6-6276-4BD2-BC3A-F04F95A8E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4E49-0F0E-4890-8E78-022369E4E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B792-D8A2-41BA-8DC6-C64C8BC3A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5F0E-3F51-4643-91CA-85B732A0B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0D2B-464D-49CE-8C79-2C46948F4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50A7-D170-49D4-81A4-CEEA32263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83E7-05CA-4277-838C-D7720273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446-BB72-4628-94FF-BA21BB23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CE1-8489-4B5E-8145-5D579EFE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8C1-230F-4272-A581-D074953D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74B-C21F-49D7-A732-BEFD998C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7100-3C0E-4C3E-8564-AC95D897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CEE0-6F06-4539-8347-73A9FDE7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5497-61C4-4E1D-9EC6-58CF3DA8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18D8-CA43-491F-AD63-64AC48DA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0750-0865-43FE-9F91-94C0195C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CF2E-B440-4DA5-A4EC-FAEC4005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208D-4DD9-4F35-85D1-F77FCFB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953-BD3A-4565-8DB7-067083B5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A903-3D06-42DB-9635-3BBF180D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1911-5114-427D-88F7-0F0E52E6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7FE5-25F5-4EB3-ABDD-2E3B47F7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088C-5151-401C-A14A-0DF84D80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B37A-FC4C-44F4-8891-32E5D76D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098-EFCF-4051-AE90-94D8A4F4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7CC-5EDC-4339-A9DA-835330E7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622-0E5A-432A-8EA9-294D55CE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18E-DB71-49F9-B532-9EC7AE27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893-B7D8-4CFB-B27E-7AB2DEBD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529-889B-4501-9628-6F61DA53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FAA-AB5F-451E-9590-4AFD43B7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DE92-28B4-4901-B79B-123B64226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9299-53DC-40E5-A5D1-CCD44BB98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410920" y="551664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f. dr Vladimir Zivkov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529360" y="12621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ORTS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539640" y="2637000"/>
            <a:ext cx="777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teaching unit (eighth week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SICS OF SPORTS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c principles of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349360"/>
            <a:ext cx="822960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eral guidelin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 3 main meals and 2 snacks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rrect percentage ratio of macronutrients in the daily energy intake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ation of all food groups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equate energy intake (in order to achieve energy balance)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   sufficient fluid intake and proper hyd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role of proper nutrition in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2420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cesses in the athlete's recover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toration of glycogen depots in muscles and liver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replacement of fluids and electrolytes (lost through sweating)      3. synthesis of new proteins (after catabolism caused by exercise)        4. restoration of the immune system (in order to preserve general healt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68360" y="2708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cronutrients in sports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carbohydrates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Calibri"/>
              </a:rPr>
              <a:t>They represent the basis of athletes' nutrition (they directly participate in depositing glycogen, which is used as a source of energy during competition and training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clud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monosaccharides (glucose, galactose, fructose, sorbitol, mannitol)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oligosaccharides (sucrose, lactose, maltose)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polysaccharides (starch, amylose, amylopect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lycogen - glucose depot in muscles and li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ncreased intake of CH enables an increase in muscle glycogen stor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uscle glycogen deposition is greatest during the 1st hour after exerc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at is why the early intake of CH after exercise is extremely important (enables efficient recovery of muscle cells)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lycemic index (G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915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umber that shows how CHs affect blood glucose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ucose has a glycemic index of 100 (other foods have a lower inde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w glycemic index ensures a slow release of glucose into the bl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ods with a high glycemic index raise glycemia fa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mmendation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training, you should take low GI food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n the 1st hour after physical activity, medium and high GI foods should be used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ontinue their intake during the next hour (replenishment of glycogen stor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CH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CH (monosaccharides) - sweets, carbonated drinks, chocolate, refined sugar products, white flour produc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CH quickly raise the level of glucose in the blood - high glycemic ind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used for quick recovery of spent energy (after train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cause of the sudden jump (and consequently the drop in blood glucose), simple CH should be avoided before training or compet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ir consumption immediately before activity can cause hypoglycemia (loss of necessary energ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x CH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found in whole grains, legumes, stone fruits and vege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break down gradually - their sugar content is slowly released into the bloodstream (slow insulin secre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CH quickly gradually raise the level of glucose in the blood - low glycemic ind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recommended to use them at least an hour before the competition (to ensure enough energy for physical activi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protein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48392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ins - macromolecules consisting of a combination of 21 amino ac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proteins in the body: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tructural, enzymatic, immunological (protective),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hormonal and neurotransmitter,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ransport, energy, buffer (maintenance of normal pH),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osmotic (maintenance of optimal fluid balance)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mecha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 essential AAs: phenylalanine, valine, threonine, tryptophan, methionine, leucine, isoleucine, lysine and histid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n-essential AAs: alanine, aspartate, cysteine, glutamate, glutamine, glycine, proline, serine, asparagine, pyrrolys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mino acids are conditionally essential (according to different divis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protein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341000"/>
            <a:ext cx="822960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 (complete) proteins (meat, milk, eggs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ally incomplete (lentils, beans and other leguminous vegetables, stone fru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mplete proteins (grai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s of complete proteins: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contain all essential acids in their composition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have the correct ratio of amino acids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help maintain the nitrogen balance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are necessary for tissue growth and development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most often come from animal produ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1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of incomplete proteins: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hey lack one or more AAs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long-term intake leads to malnutrition and they mainly come from foods of plant orig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protein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48392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ants for protein intake through food: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amount of protein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ype of protein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time of protein intake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ntake of carbohydrates together with prote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 athletes consume a large amount of protein (&gt;2 to 3 g/kg/da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protein intake in order to achieve stronger muscle mass is not based in the relevant scientific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cess of ingested proteins is used for energy metabolism (after deamination) or is recycled into fat and deposi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protein intake disrupts kidney and liver function (due to the elimination of urea and other products of nitrogen metabolis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ealthy Lifestyle Sports Nutrition Athlete Food Stock Vector (Royalty Free)  437993680"/>
          <p:cNvPicPr/>
          <p:nvPr/>
        </p:nvPicPr>
        <p:blipFill>
          <a:blip r:embed="rId1"/>
          <a:srcRect l="0" t="13635" r="0" b="27283"/>
          <a:stretch/>
        </p:blipFill>
        <p:spPr>
          <a:xfrm>
            <a:off x="395280" y="1773360"/>
            <a:ext cx="8353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commended daily protein in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Protein intake recommendationS - Fitbit Community"/>
          <p:cNvPicPr/>
          <p:nvPr/>
        </p:nvPicPr>
        <p:blipFill>
          <a:blip r:embed="rId1"/>
          <a:stretch/>
        </p:blipFill>
        <p:spPr>
          <a:xfrm>
            <a:off x="539640" y="1628640"/>
            <a:ext cx="768672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otein content in some foods per 100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1413000"/>
            <a:ext cx="38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est source of amino acids is whey protein (it stimulates the anabolic response of skeletal muscles the mos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est time for protein intake is immediately after exercis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combined ingestion of prot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carbohydrates promotes protein balance during high-intensity training and inhibits the intensity of protein 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Best protein sources : r/coolguides"/>
          <p:cNvPicPr/>
          <p:nvPr/>
        </p:nvPicPr>
        <p:blipFill>
          <a:blip r:embed="rId1"/>
          <a:stretch/>
        </p:blipFill>
        <p:spPr>
          <a:xfrm>
            <a:off x="3708360" y="907920"/>
            <a:ext cx="54356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fat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84464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le of fat in the diet: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ergy and reserve material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ource of essential fatty acids necessary for the synthesis of eicosanoids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ource of liposoluble vitamins (A, D, E and K)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 of provitamin (carotene)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al role (part of cell membranes)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ary messenger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fect the physical and organoleptic properties of f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st important lipids in the diet: triglycerides, fatty acids, phospholipids and cholest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fat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77336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59200" indent="-259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commend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nergy intake originating from fat &lt; 30% of the total daily energy intake       - saturated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F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lt; 10% of total fat intake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unsaturated fatty acids - 70% to 80% of total fat intake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polyunsaturated/ monounsaturated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F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50%: 50%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&lt; 300 mg of cholesterol per day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b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ways choose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nsaturated fats (minimize the use of saturated and trans fats)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foods rich in quality fats - fish, lean meat, olive oil, linseed oil, peanut butter, seeds and stone fruits (almonds, hazelnuts, walnu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mportance of fiber in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155736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ber - a type of complex carbohydrates of plant origin that cannot be diges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of fiber: lowering blood pressure, cholesterol levels, blood glucose, reducing the risk of malignant diseases, reducing body we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mmendation: at least 25 g/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divided into those that are soluble in water and those that are insolu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s of soluble fiber: fruits (apples, oranges, pears, strawberries, walnuts), vegetables (cucumber, celery, carrots), cereals, bran, oats and legumes (beans, peas, lenti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ble fibers bind water (they form a kind of gel) - they slow down the digestion of food and bowel mov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way, they influence that the feeling of satiety lasts longer, which can be very suitable for reducing body mas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68360" y="2565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als of sports nutrition before, during and after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BEFOR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al that the athlete consumes 1-4 hours before training allows the replenishment of glycogen reserves in the muscles and especially in the liver, which were used up during slee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e-workout meal should be rich in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 (1-4 g/kg/body weigh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mmend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ating a small meal with a low glycemic index (30-60 min before training):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nsures a gradual release of glucose during training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reduces the risk of a drop in blood glucose levels at the beginning of training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ncreases fat metabolism (provides additional energy - important for endurance s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 and GI content in f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1"/>
          <a:srcRect l="22962" t="25221" r="32762" b="18671"/>
          <a:stretch/>
        </p:blipFill>
        <p:spPr>
          <a:xfrm>
            <a:off x="1116000" y="1557360"/>
            <a:ext cx="6669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DURING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ing training, glycogen reserves are consumed (reduces sports performance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 intake during training provides additional energy for muscle and CNS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functi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The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 effect is realized through: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saving glycogen reserves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ntake of available substrates for muscle work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prevention of hypoglycemia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activation of centers in the C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mount of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 that should be ingested during training depends on:        - types, intensity and duration of training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environmental conditions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level of preparedness of the ath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DURING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000" y="2060280"/>
            <a:ext cx="83516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ing exercises that last from 30 to 60 minutes, it is not necessary to enter UH (existing glycogen reserves provide enough energ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ing training that lasts from 45 to 75 minutes, it is necessary to enter small amounts of carbohyd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insing the mouth with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 solution: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 Frequent contact of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 and receptors in the oral cavity stimulates receptors in the CNS (increases the feeling of comfort and improves conscious work during train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ing prolonged exercise (longer than 1 hour) it is necessary to enter an additional amount of carbohydrates (depends on the duration and intensity of the exerci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riathlon | Allans triatlonverden | Side 2"/>
          <p:cNvPicPr/>
          <p:nvPr/>
        </p:nvPicPr>
        <p:blipFill>
          <a:blip r:embed="rId1"/>
          <a:stretch/>
        </p:blipFill>
        <p:spPr>
          <a:xfrm>
            <a:off x="2124000" y="1125360"/>
            <a:ext cx="4824360" cy="422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mprove Your Productivity &amp;amp; Focus Through Diet, Rest, &amp;amp; Exercise - Reset  {Basics}"/>
          <p:cNvPicPr/>
          <p:nvPr/>
        </p:nvPicPr>
        <p:blipFill>
          <a:blip r:embed="rId2"/>
          <a:stretch/>
        </p:blipFill>
        <p:spPr>
          <a:xfrm>
            <a:off x="1619280" y="1125360"/>
            <a:ext cx="5911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AFTER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000" y="1844640"/>
            <a:ext cx="83516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t workout nutrition goal: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replenishment of glycogen reserves in the liver and muscles,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fluid and electrolyte replacement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tissue regeneration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adaptation processes after catabolic stress and damage that occur as a result of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AFTER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000" y="1844640"/>
            <a:ext cx="83516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Recommendatio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consumption of 1–1.2 g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/kg/hour during 4 to 6 hours after training (intake should start within 30 minutes after training)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 should be medium to high GI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Intake of about 25 g of whole proteins immediately after training (stimulation of muscle protein synthesis)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Proteins of high biological value - meat, milk and eggs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Whey proteins are quickly digested and quickly absorbed (stimulates protein synthesis and oxidation most effective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Thank you for your attention!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763640" y="2565360"/>
            <a:ext cx="58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utrition in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S OF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Sports Nutrition - Feed To Succeed"/>
          <p:cNvPicPr/>
          <p:nvPr/>
        </p:nvPicPr>
        <p:blipFill>
          <a:blip r:embed="rId1"/>
          <a:stretch/>
        </p:blipFill>
        <p:spPr>
          <a:xfrm>
            <a:off x="1979640" y="1557360"/>
            <a:ext cx="5157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utritional status of athl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 nutritional needs depend on the physiological requirements of training, the lifestyle of the athlete and the characteristics of the 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meters for determining nutritional status: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anthropometric measurement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internal examination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biochemical blood analysis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dietary intake of micro- and macro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ing dietary intake: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food intake in the previous 24 hours,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filling in a questionnaire on the frequency of food intake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keeping a food diary (within 3-7 d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utritional habits of athl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m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mount of food t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vals between m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before training or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during or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after training or compet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stakes in the nutrition of athl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77336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ufficient nutritional 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ncial limitation in the choice of fo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time that makes it difficult to choose fo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equent tr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varied and monotonous di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pping me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ng gaps between me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intake of water and sports dr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ufficient number of portions of fruits, vegetables, milk and dairy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intake of fast fo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c principles of sports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844640"/>
            <a:ext cx="8229600" cy="28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ral guidelines: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carbohydrates (55–60%),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fats (up to 30%)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proteins (10-1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How To Calculate Your Ideal Macronutrients Intake | by ShapeScale |  shapescale | Medium"/>
          <p:cNvPicPr/>
          <p:nvPr/>
        </p:nvPicPr>
        <p:blipFill>
          <a:blip r:embed="rId1"/>
          <a:srcRect l="5905" t="20028" r="4762" b="4875"/>
          <a:stretch/>
        </p:blipFill>
        <p:spPr>
          <a:xfrm>
            <a:off x="1042920" y="3860640"/>
            <a:ext cx="68421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7:59:30Z</dcterms:created>
  <dc:creator>Vlada Zivkovic</dc:creator>
  <dc:description/>
  <dc:language>en-US</dc:language>
  <cp:lastModifiedBy>x</cp:lastModifiedBy>
  <dcterms:modified xsi:type="dcterms:W3CDTF">2024-02-26T20:10:48Z</dcterms:modified>
  <cp:revision>443</cp:revision>
  <dc:subject/>
  <dc:title>Slide 1</dc:title>
</cp:coreProperties>
</file>